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1117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189-00C3-48D0-B085-6CE5D201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0D2-9C9E-4539-B4B4-D269FEA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EF6-A3C3-40DD-A816-339019BC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23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54520"/>
            <a:ext cx="264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299-6E61-4F13-924B-539D6951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F4A-0562-4EB4-B54D-92E8EF4F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070-9C8D-4114-A0C4-D4D855B0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C33-1262-49E9-A5DE-8016A2B1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07E3-A078-4317-9BB7-9EC561C8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484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81EA-DB8E-4F4F-B4C8-83A52059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1D0F-41F8-4188-A278-42F0E1BB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545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F208-A392-4FE2-944E-FD8437E0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2320"/>
            <a:ext cx="40158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54520"/>
            <a:ext cx="8229600" cy="16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AAA-50BF-4306-B377-D8B0A1F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484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2320"/>
            <a:ext cx="8229600" cy="33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5444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54440"/>
            <a:ext cx="21337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6B6-1179-4855-B724-0C204F216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9746" r="0" b="0"/>
          <a:stretch/>
        </p:blipFill>
        <p:spPr>
          <a:xfrm>
            <a:off x="0" y="0"/>
            <a:ext cx="91440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1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